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532-1673-4422-82EE-B8549527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88E-BEE6-4DBB-B26A-317DE3C2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D45-6907-45CA-9363-88A39D0E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F28-0417-492D-B559-296ABB74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4703-BD03-4F0D-8C3D-24BB9084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B7DE-96FA-473A-AA36-8EDBB079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0723-50DA-45B9-9A31-E5C582A0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7378-2A18-4291-BD71-C34CAE03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75C8-C452-4DB9-91B7-57553F4D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AB3C-F54F-4296-A089-5911DC35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90E8-3D91-43CB-BD2C-D2D7093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68B-B7F8-4489-848A-3FE9C9BD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98E8-6C32-48DF-AB65-05076F2D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7210-4377-4A2A-91C1-A235871B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0832-F5B9-4BDD-8384-93323F58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B6A8-44F9-49F0-97E7-48455C4C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4161-5004-43C0-A693-39484E6C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AAE8B-2C9D-489D-8957-473154C6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0F6B-DB23-4661-BAD1-431A98B0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D8B1-9CCF-45AB-96C6-53284FFF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F8986-5558-47E7-9E24-9FD6EBDA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371B-ACF6-48F8-A667-605FD65D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DC8-8188-4190-87AC-D280CC4E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F593-B435-45A2-AD32-5EAE50BD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A324-6E57-4EF2-BC0C-51569AD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8A83-AAAA-4448-8FF9-83E1A4E9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25AF-135C-408E-A1B1-6C1D3E9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D5A1-7C41-497A-9609-C5F324A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9F9F-DEE1-49BC-BD5F-5BBA111C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4E3E-4038-444F-B1F8-8B9317E3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0B283-2C8E-40D7-B345-E0CCDFBC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9114-9648-4C8E-88FE-8EA2C0B7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79C6C-8993-408D-959E-30A76CB1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AA0-F157-42B5-969E-2061D8B4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14C3-11AE-4D36-87BA-9B9CBF67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48FA-DFE3-40E4-BE06-9D765A05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3CD3-F4D1-43BD-BECD-906110AF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1917-45C5-481F-A9B1-951EFE7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556F-3F6B-404A-BDD4-CC88348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FD64E-0044-4A56-9673-223478C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805B-3E2D-4A08-B6B1-999283F4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72581-AEEF-433F-9068-644CCB0A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2C866-B3EE-4199-8383-2D550BA9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7CF9F-9C4E-44C2-AEF1-90BBD1AC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2BC-016A-40AD-8822-C5A818A9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F59C-7BEB-46A7-99D5-7DE4E478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F9A51-C500-49F2-80A6-D47B787F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CE0A-270B-48B8-B87F-FA2E943D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3B48-2679-4ABE-ACE7-DF561F46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44CF0-3340-4061-A358-B36E12DC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4C5D1-0668-4BE7-8DA4-5034DA5E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678D8-0930-4300-8EA2-6A609A5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B20A3-23E7-4B95-BAB4-FC17E3D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2DA4-9F43-4EA2-B35F-993D9B73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E993-6CF1-4CAA-9547-B4C25ADF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779-9286-4C36-9B5F-B7FFE96C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111DE-800F-49E7-8395-53EAA6EC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6D9C-3C54-4CCA-BF37-C68402C5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A360-E533-432E-A4D7-6962A724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5637D-DD90-42EA-A8D2-1AFBD973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FEC7F-208B-4166-86E4-209314D9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CDA8D-87C3-45F9-B278-4DA860C3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AFEFB-4C8E-469D-A3F3-07D3BA40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DB689-F25B-4396-88C3-0F9CF120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79A1-BF80-4F80-B3C4-88DD687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A98D-02FE-4F9F-9DAA-E25767A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626-5863-403E-9194-362AC0A2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24AB-C4C4-4BA6-A28E-36B50FF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719D9-749B-40D8-BB91-F562CFBD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D0A8F-0F65-43A4-931F-29A30939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534-8AED-4465-84AD-1AEC783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CDF-16B6-4277-B2DF-EF2A6829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5558-8A43-4BEE-B1A2-EDAE19794833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2244-F15C-4688-970E-AE6A1E7E9123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C5F5-1A6E-4EB8-B57F-4660CB0ECDC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D31D-D30F-4A9B-BED1-16ACF288F63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19D0-F8A8-44D6-84DF-D2513E36161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E45B-4A76-49C9-B774-2DE3AEE08CF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700" spc="-1" strike="noStrike">
              <a:solidFill>
                <a:srgbClr val="1f497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1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3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hildren’s Brains are only 25% developed at birth. The more stimulation a child has through all of it’s senses (hearing, taste, touch, smell, sight) the more rapidly further development will occur (M. Fox, 2008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5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5:32:45Z</dcterms:created>
  <dc:creator>Jennine</dc:creator>
  <dc:description/>
  <dc:language>en-US</dc:language>
  <cp:lastModifiedBy>Jennine</cp:lastModifiedBy>
  <dcterms:modified xsi:type="dcterms:W3CDTF">2009-08-29T15:52:39Z</dcterms:modified>
  <cp:revision>2</cp:revision>
  <dc:subject/>
  <dc:title>Engaging all Learners through Technology</dc:title>
</cp:coreProperties>
</file>